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laser.wav" ContentType="audio/x-wav"/>
  <Override PartName="/ppt/media/image12.wmf" ContentType="image/x-wmf"/>
  <Override PartName="/ppt/media/image7.wmf" ContentType="image/x-wmf"/>
  <Override PartName="/ppt/media/projctor.wav" ContentType="audio/x-wav"/>
  <Override PartName="/ppt/media/carbrake.wav" ContentType="audio/x-wav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8.jpeg" ContentType="image/jpeg"/>
  <Override PartName="/ppt/media/image13.wmf" ContentType="image/x-wmf"/>
  <Override PartName="/ppt/media/whoosh.wav" ContentType="audio/x-wav"/>
  <Override PartName="/ppt/media/image9.jpeg" ContentType="image/jpeg"/>
  <Override PartName="/ppt/media/image11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CC5-1211-459E-8D41-70768E6A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160C-6A31-426A-86DE-85448D6EB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FA8-CFEB-4300-960B-6436DAD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981-049A-44F6-A164-2446261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915-700A-426D-BAD4-EF62A46A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640-2E3C-491F-A0AA-A724B04D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99A-B7CB-4CBB-A0B5-BC8A405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EFF-BAA2-48CB-ABFC-D5142EE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3CD-0782-4E9A-8C23-60F6D2B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E04-9368-4DB5-A65F-46D7A540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FDE-155A-4CEB-B530-8F29A0EF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E93-5248-4D2C-8EBD-37B0C0E9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F1E-C5B7-496D-A1B6-4BED44B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BE4-A099-4B7B-B883-B82A710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669-46F6-4A23-BD63-B1A785419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COMPOUND</a:t>
            </a:r>
            <a:r>
              <a:rPr b="0" lang="en-US" sz="6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wo words put together to make one large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fire + tru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firetru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:\Documents and Settings\Owner\Application Data\Microsoft\Media Catalog\Downloaded Clips\cl3b\j0149657.wmf"/>
          <p:cNvPicPr/>
          <p:nvPr/>
        </p:nvPicPr>
        <p:blipFill>
          <a:blip r:embed="rId1"/>
          <a:srcRect l="0" t="19379" r="0" b="7966"/>
          <a:stretch/>
        </p:blipFill>
        <p:spPr>
          <a:xfrm>
            <a:off x="4648320" y="3200400"/>
            <a:ext cx="419076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cow + b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cowbo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c:\program files\microsoft office\clipart\standard\stddir4\pe03099_.wmf"/>
          <p:cNvPicPr/>
          <p:nvPr/>
        </p:nvPicPr>
        <p:blipFill>
          <a:blip r:embed="rId1"/>
          <a:stretch/>
        </p:blipFill>
        <p:spPr>
          <a:xfrm>
            <a:off x="6019920" y="3276720"/>
            <a:ext cx="1276200" cy="28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utter + f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Butterf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c:\program files\microsoft office\clipart\standard\stddir2\dd00693_.wmf"/>
          <p:cNvPicPr/>
          <p:nvPr/>
        </p:nvPicPr>
        <p:blipFill>
          <a:blip r:embed="rId1"/>
          <a:stretch/>
        </p:blipFill>
        <p:spPr>
          <a:xfrm>
            <a:off x="5334120" y="3657600"/>
            <a:ext cx="2666880" cy="18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dog +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dog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Documents and Settings\Owner\Application Data\Microsoft\Media Catalog\Downloaded Clips\cl0\HH00711_.wmf"/>
          <p:cNvPicPr/>
          <p:nvPr/>
        </p:nvPicPr>
        <p:blipFill>
          <a:blip r:embed="rId1"/>
          <a:stretch/>
        </p:blipFill>
        <p:spPr>
          <a:xfrm>
            <a:off x="5541840" y="3124080"/>
            <a:ext cx="2005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mail + bo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Mailbo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C:\Documents and Settings\Owner\Application Data\Microsoft\Media Catalog\Downloaded Clips\cl1f\j0078771.wmf"/>
          <p:cNvPicPr/>
          <p:nvPr/>
        </p:nvPicPr>
        <p:blipFill>
          <a:blip r:embed="rId1"/>
          <a:stretch/>
        </p:blipFill>
        <p:spPr>
          <a:xfrm>
            <a:off x="5638680" y="358128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lunch +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lunchro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Documents and Settings\Owner\Application Data\Microsoft\Media Catalog\Downloaded Clips\cl23\j0088586.wm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81480" y="2971800"/>
            <a:ext cx="342900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light +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400" spc="-1" strike="noStrike">
                <a:solidFill>
                  <a:srgbClr val="800080"/>
                </a:solidFill>
                <a:latin typeface="Times New Roman"/>
              </a:rPr>
              <a:t>light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C:\Program Files\Microsoft Office\Clipart\photohm\j0144854.jpg"/>
          <p:cNvPicPr/>
          <p:nvPr/>
        </p:nvPicPr>
        <p:blipFill>
          <a:blip r:embed="rId1"/>
          <a:stretch/>
        </p:blipFill>
        <p:spPr>
          <a:xfrm>
            <a:off x="5562720" y="3429000"/>
            <a:ext cx="1770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6699"/>
                </a:solidFill>
                <a:latin typeface="Times New Roman"/>
              </a:rPr>
              <a:t>sea + sh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eash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c:\program files\microsoft office\clipart\standard\stddir1\an02523_.wmf"/>
          <p:cNvPicPr/>
          <p:nvPr/>
        </p:nvPicPr>
        <p:blipFill>
          <a:blip r:embed="rId2"/>
          <a:stretch/>
        </p:blipFill>
        <p:spPr>
          <a:xfrm>
            <a:off x="4952880" y="3581280"/>
            <a:ext cx="32162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Compound Wo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pan + cakes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pancak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Documents and Settings\Owner\Application Data\Microsoft\Media Catalog\Downloaded Clips\cl3c\j0151213.wmf"/>
          <p:cNvPicPr/>
          <p:nvPr/>
        </p:nvPicPr>
        <p:blipFill>
          <a:blip r:embed="rId2"/>
          <a:stretch/>
        </p:blipFill>
        <p:spPr>
          <a:xfrm>
            <a:off x="5638680" y="3352680"/>
            <a:ext cx="1965600" cy="24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19:36:03Z</dcterms:created>
  <dc:creator>Owner</dc:creator>
  <dc:description/>
  <dc:language>en-US</dc:language>
  <cp:lastModifiedBy>WRC</cp:lastModifiedBy>
  <dcterms:modified xsi:type="dcterms:W3CDTF">2011-02-06T23:23:30Z</dcterms:modified>
  <cp:revision>64</cp:revision>
  <dc:subject/>
  <dc:title>Compound Words</dc:title>
</cp:coreProperties>
</file>